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15.jpeg" ContentType="image/jpe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.jpeg" ContentType="image/jpeg"/>
  <Override PartName="/ppt/media/image4.wmf" ContentType="image/x-wmf"/>
  <Override PartName="/ppt/media/image27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7AD-AFCB-432F-8942-70115D5D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C3A-0083-45D7-B1EB-1C119D59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84C-7763-4E17-8D06-C19A72F5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D28-0C3C-4968-A54A-D4099FFC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6869F-9158-49E6-8DC3-3BD7FEC5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4E849-A17E-449A-A0DD-7744C374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F71FF-2A3D-4052-9040-30877B24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A8DD5-454E-4768-92F4-BAC00E86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90E91-C362-4E32-B88D-20E76C15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71973-A0FC-4B03-9C85-5DD93F80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1A7A5-DA32-4588-9FF2-C7E7C25D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02D-C2BE-4E01-ADAD-A8E618AC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8BF6B-400E-49DC-8197-7F94E074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92F6A-8DCE-4CAC-A19C-6FD62986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FDF3F-16B5-406B-87BF-87B723BA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FA2EF-35C8-475B-9EFF-6C038F73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8419E-51E7-4EBC-B59D-DE0D18B0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5EB-B6EF-47A9-97AD-C610649F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24B-8F3F-49FB-984F-F3F3976E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2DB-3628-40DB-850A-3DF5B3BD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116-3177-4741-8310-2B411604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F45-1EAA-4A9D-B839-D3A7E522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6D4-FEA0-4D5A-BEFB-8A61B9E0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19B-1A04-4482-AFC9-93D506A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CA42-7A79-4050-9B8B-8BAEC7611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028-1568-4476-95A6-4E5803DBB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ris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I thought it’s close to Halloween” I said. People are coming truck or treating.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013360"/>
            <a:ext cx="1730520" cy="1844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690640" y="4637160"/>
            <a:ext cx="1876680" cy="1930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334120" y="4911840"/>
            <a:ext cx="1562040" cy="1946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467480" y="5030640"/>
            <a:ext cx="14572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5024520"/>
            <a:ext cx="1249200" cy="1833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 rot="21455400">
            <a:off x="4800240" y="5043600"/>
            <a:ext cx="17762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ere a ton of Monsters outside my window invading the tow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53080" y="2590920"/>
            <a:ext cx="1968480" cy="761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362320" y="5213520"/>
            <a:ext cx="232092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58000" y="5286240"/>
            <a:ext cx="193032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04920" y="3048120"/>
            <a:ext cx="1923840" cy="1174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800600" y="5289480"/>
            <a:ext cx="1927080" cy="1568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28600" y="5626080"/>
            <a:ext cx="1936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 chilly October  night when my shutters flew ope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214776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350120" y="5038560"/>
            <a:ext cx="1793880" cy="1819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818480" y="2666880"/>
            <a:ext cx="132552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048120" y="3419640"/>
            <a:ext cx="36795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ll so scary. Me and my family were the only ones left in town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50080" y="3735360"/>
            <a:ext cx="2293920" cy="3122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467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suddenly something peeked through the wind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5029200"/>
            <a:ext cx="4559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I was so scared! I went in my room and got under my cov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6400800" cy="3733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161136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520380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looked like a lot of things but I just couldn’t tell what it was but I was still scar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378560" y="502920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5024520"/>
            <a:ext cx="1498680" cy="1833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52480" y="3429000"/>
            <a:ext cx="2981520" cy="342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876920" y="3735360"/>
            <a:ext cx="22939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kind of looked like a monster mumm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657600" y="5013360"/>
            <a:ext cx="1730520" cy="1844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0492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hen I just remembered that It was close to Hallowe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1:18Z</dcterms:created>
  <dc:creator>student</dc:creator>
  <dc:description/>
  <dc:language>en-US</dc:language>
  <cp:lastModifiedBy>Joni George</cp:lastModifiedBy>
  <dcterms:modified xsi:type="dcterms:W3CDTF">2010-10-27T13:57:07Z</dcterms:modified>
  <cp:revision>13</cp:revision>
  <dc:subject/>
  <dc:title>christy</dc:title>
</cp:coreProperties>
</file>